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імназія №13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E012-773F-4B88-AAF9-651835AE0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імназія №1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B10-0877-45EB-9A9F-1F8DBE69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41F-D94E-4EA8-AE12-BACF7955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8F0-52C2-4A6B-A8D1-CDD317B3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DA1-8F8C-4D55-89CA-656473E4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8159-8EC7-44DB-94BD-D0D19F6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8D19-7B4B-44CB-BA19-980A1CAE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BA66-9EFA-4BB6-90E9-19E52261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C97C-6BF0-46EC-9938-84A1DE57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6FE6-5BD8-452A-A1F6-E9B1153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B94-535A-4AF1-AE95-9DA0AE5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212-16F9-4005-80B1-4CF6493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2B5-8E06-4475-A6CB-6E8DA44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C3D5-3D3E-4610-8CF9-171E7B8A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A1EF-D486-45FC-89C9-6ACF638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3876-87EF-4654-A6F2-A432D9A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B89-49CE-4F18-9664-2EFFC046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BB99-1093-45E9-A6D2-917682DF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D16-73B1-4602-9156-C54D855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708-3E0D-4038-AC8D-648C3A9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FA1-C35E-4FBA-B25E-1300C75B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3BA-79DC-451A-B94C-1ACFE23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DE6-965B-45B8-94C3-FD425F1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20E-CFC4-401A-B113-7D53EF5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D0B-63CE-4C1B-B3DF-006C26F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імназія №13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32D-FD34-4C3A-9825-E92D2E6C73F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імназія №13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FB96-721F-4633-AC96-12CE004C7A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-757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395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-1189080" y="38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4788000" y="2493720"/>
            <a:ext cx="410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а педагогічної майстерності та менеджмен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ість: Специфічні категор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ня проек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онала магістрантка: Гилюн Людмила Вікторі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п.н., доцент Малаканова Л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00000549_s"/>
          <p:cNvPicPr/>
          <p:nvPr/>
        </p:nvPicPr>
        <p:blipFill>
          <a:blip r:embed="rId1"/>
          <a:stretch/>
        </p:blipFill>
        <p:spPr>
          <a:xfrm>
            <a:off x="468360" y="1844640"/>
            <a:ext cx="390852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7"/>
          <p:cNvSpPr/>
          <p:nvPr/>
        </p:nvSpPr>
        <p:spPr>
          <a:xfrm>
            <a:off x="1403280" y="47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ТАВСЬКИЙ НАЦІОНАЛЬНИЙ ПЕДАГОГІЧНИЙ УНІВЕРСИТЕТ ІМЕНІ В.Г. КОРОЛ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Інноваційні підходи до управлі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685800" y="1447920"/>
            <a:ext cx="2514600" cy="1447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ворчі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6019920" y="1447920"/>
            <a:ext cx="259056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Майстерні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228600" y="5257800"/>
            <a:ext cx="289548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Буденні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324480" y="5638680"/>
            <a:ext cx="25909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Функціонуванн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0880" y="3429000"/>
            <a:ext cx="259092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Удосконаленн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ізнання нов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6172200" y="3657600"/>
            <a:ext cx="274320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вит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3276720" y="5638680"/>
            <a:ext cx="2895480" cy="4572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3276720" y="3962520"/>
            <a:ext cx="2971800" cy="45720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3276720" y="2057400"/>
            <a:ext cx="2666880" cy="45720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12" descr="PROFESSR"/>
          <p:cNvPicPr/>
          <p:nvPr/>
        </p:nvPicPr>
        <p:blipFill>
          <a:blip r:embed="rId1"/>
          <a:stretch/>
        </p:blipFill>
        <p:spPr>
          <a:xfrm>
            <a:off x="2286000" y="1066680"/>
            <a:ext cx="401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403280" y="191628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нноваційні підходи до управління освітнім заклад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4"/>
          <p:cNvSpPr/>
          <p:nvPr/>
        </p:nvSpPr>
        <p:spPr>
          <a:xfrm>
            <a:off x="5003640" y="1341360"/>
            <a:ext cx="3098880" cy="2232000"/>
          </a:xfrm>
          <a:prstGeom prst="hexagon">
            <a:avLst>
              <a:gd name="adj" fmla="val 34710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ворчі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чителів 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кладач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3059280" y="2421000"/>
            <a:ext cx="2736720" cy="2160360"/>
          </a:xfrm>
          <a:prstGeom prst="hexagon">
            <a:avLst>
              <a:gd name="adj" fmla="val 31670"/>
              <a:gd name="vf" fmla="val 115470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Синте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прийом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 метод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радиційної і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інноваційн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осві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53"/>
          <p:cNvSpPr/>
          <p:nvPr/>
        </p:nvSpPr>
        <p:spPr>
          <a:xfrm>
            <a:off x="3276720" y="4508640"/>
            <a:ext cx="2447640" cy="2016000"/>
          </a:xfrm>
          <a:prstGeom prst="hexagon">
            <a:avLst>
              <a:gd name="adj" fmla="val 30353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ерува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звитк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сона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7"/>
          <p:cNvSpPr/>
          <p:nvPr/>
        </p:nvSpPr>
        <p:spPr>
          <a:xfrm>
            <a:off x="971640" y="1413000"/>
            <a:ext cx="2878200" cy="2160360"/>
          </a:xfrm>
          <a:prstGeom prst="hexagon">
            <a:avLst>
              <a:gd name="adj" fmla="val 33307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амостійні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єкт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правлі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58"/>
          <p:cNvSpPr/>
          <p:nvPr/>
        </p:nvSpPr>
        <p:spPr>
          <a:xfrm>
            <a:off x="3132000" y="333360"/>
            <a:ext cx="2735280" cy="2232000"/>
          </a:xfrm>
          <a:prstGeom prst="hexagon">
            <a:avLst>
              <a:gd name="adj" fmla="val 30637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новаційн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ціати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єкт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правлі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ринципи інноваційності в управлінні освітнім закла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56"/>
          <p:cNvSpPr/>
          <p:nvPr/>
        </p:nvSpPr>
        <p:spPr>
          <a:xfrm>
            <a:off x="826920" y="3500280"/>
            <a:ext cx="3097440" cy="2376720"/>
          </a:xfrm>
          <a:prstGeom prst="hexagon">
            <a:avLst>
              <a:gd name="adj" fmla="val 32581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дтримува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амодіяльні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єкт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правлі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55"/>
          <p:cNvSpPr/>
          <p:nvPr/>
        </p:nvSpPr>
        <p:spPr>
          <a:xfrm>
            <a:off x="5003640" y="3429000"/>
            <a:ext cx="3311640" cy="2160720"/>
          </a:xfrm>
          <a:prstGeom prst="hexagon">
            <a:avLst>
              <a:gd name="adj" fmla="val 33874"/>
              <a:gd name="vf" fmla="val 115470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вчити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заємодії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ести відповідальні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самостійно ч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операти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йняті ріш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УКОВ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І</a:t>
            </a:r>
            <a:r>
              <a:rPr b="1" lang="uk-U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ПІДХОДИ В УПРАВЛІННІ ЗН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56"/>
          <p:cNvSpPr/>
          <p:nvPr/>
        </p:nvSpPr>
        <p:spPr>
          <a:xfrm>
            <a:off x="6748560" y="5745240"/>
            <a:ext cx="1687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5060880" y="5745240"/>
            <a:ext cx="16876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4"/>
          <p:cNvSpPr/>
          <p:nvPr/>
        </p:nvSpPr>
        <p:spPr>
          <a:xfrm>
            <a:off x="3375000" y="5745240"/>
            <a:ext cx="168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0" y="4836960"/>
            <a:ext cx="3375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ратегі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1"/>
          <p:cNvSpPr/>
          <p:nvPr/>
        </p:nvSpPr>
        <p:spPr>
          <a:xfrm>
            <a:off x="6748560" y="4802040"/>
            <a:ext cx="16873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5060880" y="4802040"/>
            <a:ext cx="1687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1979640" y="4292640"/>
            <a:ext cx="41641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іліс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0" y="4802040"/>
            <a:ext cx="8967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6748560" y="3895560"/>
            <a:ext cx="168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4"/>
          <p:cNvSpPr/>
          <p:nvPr/>
        </p:nvSpPr>
        <p:spPr>
          <a:xfrm>
            <a:off x="2843280" y="3860640"/>
            <a:ext cx="41544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Синергети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1687680" y="3895560"/>
            <a:ext cx="9061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0" y="3895560"/>
            <a:ext cx="1687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3851280" y="3284640"/>
            <a:ext cx="44388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уманісти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3375000" y="2684520"/>
            <a:ext cx="6224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1687680" y="2684520"/>
            <a:ext cx="16873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0" y="2684520"/>
            <a:ext cx="168768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5769000" y="2421000"/>
            <a:ext cx="33750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Особистісноорієнто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375000" y="1473120"/>
            <a:ext cx="1685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687680" y="1473120"/>
            <a:ext cx="16873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0" y="1473120"/>
            <a:ext cx="16876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57"/>
          <p:cNvSpPr/>
          <p:nvPr/>
        </p:nvSpPr>
        <p:spPr>
          <a:xfrm>
            <a:off x="0" y="1473120"/>
            <a:ext cx="168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62"/>
          <p:cNvSpPr/>
          <p:nvPr/>
        </p:nvSpPr>
        <p:spPr>
          <a:xfrm>
            <a:off x="0" y="6858000"/>
            <a:ext cx="337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0" y="147312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8435880" y="147312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85"/>
          <p:cNvSpPr/>
          <p:nvPr/>
        </p:nvSpPr>
        <p:spPr>
          <a:xfrm>
            <a:off x="3375000" y="1473120"/>
            <a:ext cx="1685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87"/>
          <p:cNvSpPr/>
          <p:nvPr/>
        </p:nvSpPr>
        <p:spPr>
          <a:xfrm>
            <a:off x="5060880" y="1473120"/>
            <a:ext cx="337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90"/>
          <p:cNvSpPr/>
          <p:nvPr/>
        </p:nvSpPr>
        <p:spPr>
          <a:xfrm>
            <a:off x="8435880" y="2684520"/>
            <a:ext cx="0" cy="12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192"/>
          <p:cNvSpPr/>
          <p:nvPr/>
        </p:nvSpPr>
        <p:spPr>
          <a:xfrm>
            <a:off x="0" y="3895560"/>
            <a:ext cx="0" cy="906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199"/>
          <p:cNvSpPr/>
          <p:nvPr/>
        </p:nvSpPr>
        <p:spPr>
          <a:xfrm>
            <a:off x="8435880" y="3895560"/>
            <a:ext cx="0" cy="906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201"/>
          <p:cNvSpPr/>
          <p:nvPr/>
        </p:nvSpPr>
        <p:spPr>
          <a:xfrm>
            <a:off x="0" y="4802040"/>
            <a:ext cx="0" cy="9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207"/>
          <p:cNvSpPr/>
          <p:nvPr/>
        </p:nvSpPr>
        <p:spPr>
          <a:xfrm>
            <a:off x="8435880" y="4802040"/>
            <a:ext cx="0" cy="9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09"/>
          <p:cNvSpPr/>
          <p:nvPr/>
        </p:nvSpPr>
        <p:spPr>
          <a:xfrm>
            <a:off x="0" y="5745240"/>
            <a:ext cx="0" cy="11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15"/>
          <p:cNvSpPr/>
          <p:nvPr/>
        </p:nvSpPr>
        <p:spPr>
          <a:xfrm>
            <a:off x="8435880" y="5745240"/>
            <a:ext cx="0" cy="11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16"/>
          <p:cNvSpPr/>
          <p:nvPr/>
        </p:nvSpPr>
        <p:spPr>
          <a:xfrm>
            <a:off x="3375000" y="6858000"/>
            <a:ext cx="1685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218"/>
          <p:cNvSpPr/>
          <p:nvPr/>
        </p:nvSpPr>
        <p:spPr>
          <a:xfrm>
            <a:off x="5060880" y="6858000"/>
            <a:ext cx="168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220"/>
          <p:cNvSpPr/>
          <p:nvPr/>
        </p:nvSpPr>
        <p:spPr>
          <a:xfrm>
            <a:off x="6748560" y="6858000"/>
            <a:ext cx="168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83"/>
          <p:cNvSpPr/>
          <p:nvPr/>
        </p:nvSpPr>
        <p:spPr>
          <a:xfrm>
            <a:off x="1687680" y="1473120"/>
            <a:ext cx="168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84"/>
          <p:cNvSpPr/>
          <p:nvPr/>
        </p:nvSpPr>
        <p:spPr>
          <a:xfrm>
            <a:off x="0" y="2684520"/>
            <a:ext cx="0" cy="12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34" descr="учит 4"/>
          <p:cNvPicPr/>
          <p:nvPr/>
        </p:nvPicPr>
        <p:blipFill>
          <a:blip r:embed="rId1"/>
          <a:stretch/>
        </p:blipFill>
        <p:spPr>
          <a:xfrm>
            <a:off x="250920" y="162864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6" descr="учит 3"/>
          <p:cNvPicPr/>
          <p:nvPr/>
        </p:nvPicPr>
        <p:blipFill>
          <a:blip r:embed="rId2"/>
          <a:stretch/>
        </p:blipFill>
        <p:spPr>
          <a:xfrm>
            <a:off x="7012080" y="4014720"/>
            <a:ext cx="2131920" cy="2843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6"/>
          <p:cNvSpPr/>
          <p:nvPr/>
        </p:nvSpPr>
        <p:spPr>
          <a:xfrm>
            <a:off x="5003640" y="2793960"/>
            <a:ext cx="33753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Адаптив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6597720" y="1916280"/>
            <a:ext cx="33750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Систем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cc"/>
                </a:solidFill>
                <a:latin typeface="Times New Roman"/>
              </a:rPr>
              <a:t>Шляхи реалізації інноваційних підході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1042920" y="1311840"/>
            <a:ext cx="7026480" cy="424908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ідтримка інноваційної ініціативи обєктів управління:  подання на педагогічну раду науково-методичної розробки у вигляді  педагогічної інновації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1116000" y="1813320"/>
            <a:ext cx="6877080" cy="40503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ведення систематичних конкурсів на кращу науково-методичну розробку серед працівників та участь у конкурсах і вистав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042920" y="1792800"/>
            <a:ext cx="7129440" cy="48387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Формування команди однодумців, спрямованих у своїй професійній діяльності на досягнення спільної ме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042920" y="1082520"/>
            <a:ext cx="7029360" cy="56289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ередача частини управлінських повноважень відповідній групі працівників для виконання будь-яких нових доручен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2987640" y="1052640"/>
            <a:ext cx="3240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ська діяль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95280" y="2276640"/>
            <a:ext cx="2736720" cy="180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визнан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ів управлінн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абезпечують стабіль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ування закла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132000" y="2276640"/>
            <a:ext cx="2951280" cy="1800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радиці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5940360" y="2276640"/>
            <a:ext cx="2951280" cy="180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х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сь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2627280" y="4005360"/>
            <a:ext cx="4032360" cy="180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 таких організацій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 управління, як ліній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нійно-функціональ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250920" y="2205000"/>
            <a:ext cx="2950920" cy="2162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сува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чних принципі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н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і забезпечую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курентоспроможні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нноваційність ЗН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3132000" y="2205000"/>
            <a:ext cx="2951280" cy="187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новаці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2627280" y="4005360"/>
            <a:ext cx="4392720" cy="1800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сування технологі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ювання організаційн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 управлінн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ктивного планува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тком ЗНЗ, розроб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впровадже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ічних інноваці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6084720" y="2133720"/>
            <a:ext cx="3059280" cy="2087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сува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ширеного зміс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их” 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рнізованих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ських функці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2"/>
          <p:cNvSpPr/>
          <p:nvPr/>
        </p:nvSpPr>
        <p:spPr>
          <a:xfrm>
            <a:off x="900000" y="0"/>
            <a:ext cx="824400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Результат застосування інноваційних підходів до управління освітнім закла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084720" y="3213000"/>
            <a:ext cx="2737080" cy="1313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Розширення освітніх послуг і шляхів застосування освітніх інноваці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24000" y="2924280"/>
            <a:ext cx="2806560" cy="22284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Активізація суспільних і державних зусиль щодо виходу освіти  на рівень міжнародних стандартів як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971640" y="5373720"/>
            <a:ext cx="7632720" cy="8254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носпроможність закладів освіти різних типів і форм власност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419640" y="1413000"/>
            <a:ext cx="2301840" cy="37141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Відмова керівників від принципів авторитарного 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6084720" y="907920"/>
            <a:ext cx="2808360" cy="18694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Прагнення керівників закладів освіти оволодіти сучасними основами управління соціально-педагогічними систем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(менеджменту освітніх інноваці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24000" y="981000"/>
            <a:ext cx="2808000" cy="17398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Здійснення керівниками закладів освіти підприємницької діяльності й отримання ними різних видів інвестиці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15"/>
          <p:cNvSpPr/>
          <p:nvPr/>
        </p:nvSpPr>
        <p:spPr>
          <a:xfrm>
            <a:off x="4356000" y="2133720"/>
            <a:ext cx="935280" cy="280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211640" y="2997360"/>
            <a:ext cx="485928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Times New Roman"/>
              </a:rPr>
              <a:t>Облік 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Times New Roman"/>
              </a:rPr>
              <a:t>контро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3850920" y="2133720"/>
            <a:ext cx="576360" cy="2806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32"/>
          <p:cNvSpPr/>
          <p:nvPr/>
        </p:nvSpPr>
        <p:spPr>
          <a:xfrm flipH="1">
            <a:off x="3419280" y="2133720"/>
            <a:ext cx="865080" cy="288108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>
            <a:off x="4427640" y="2133720"/>
            <a:ext cx="576000" cy="2879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38"/>
          <p:cNvSpPr/>
          <p:nvPr/>
        </p:nvSpPr>
        <p:spPr>
          <a:xfrm>
            <a:off x="4500720" y="2133720"/>
            <a:ext cx="1008000" cy="287964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2920" y="0"/>
            <a:ext cx="7561440" cy="947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Times New Roman"/>
              </a:rPr>
              <a:t>Класифікація функцій інноваційного управління освітнім закла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ункції 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484360" y="1747800"/>
            <a:ext cx="3672000" cy="4597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Інновацій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1402920" y="1989000"/>
            <a:ext cx="1009800" cy="1008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H="1">
            <a:off x="3635280" y="2133720"/>
            <a:ext cx="720720" cy="280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6084720" y="1989000"/>
            <a:ext cx="1366920" cy="935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50920" y="4937040"/>
            <a:ext cx="366372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ccff"/>
                </a:solidFill>
                <a:latin typeface="Times New Roman"/>
              </a:rPr>
              <a:t>консультатив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859280" y="4941720"/>
            <a:ext cx="3673440" cy="947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99ff"/>
                </a:solidFill>
                <a:latin typeface="Times New Roman"/>
              </a:rPr>
              <a:t>Політик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99ff"/>
                </a:solidFill>
                <a:latin typeface="Times New Roman"/>
              </a:rPr>
              <a:t>дипломатич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2997360"/>
            <a:ext cx="3562200" cy="7034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рогностич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211640" y="2997360"/>
            <a:ext cx="4681440" cy="10688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99ff"/>
                </a:solidFill>
                <a:latin typeface="Times New Roman"/>
              </a:rPr>
              <a:t>Представниць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99ff"/>
                </a:solidFill>
                <a:latin typeface="Times New Roman"/>
              </a:rPr>
              <a:t>менеджерсь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-73080" y="2997360"/>
            <a:ext cx="428472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йнятт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Управлінсь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іш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24"/>
          <p:cNvSpPr/>
          <p:nvPr/>
        </p:nvSpPr>
        <p:spPr>
          <a:xfrm flipH="1">
            <a:off x="1763280" y="2133720"/>
            <a:ext cx="792360" cy="863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6084720" y="2133720"/>
            <a:ext cx="935280" cy="8618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68360" y="1773360"/>
            <a:ext cx="42483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радицій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0" y="4941720"/>
            <a:ext cx="460836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Організація 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ланува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2997360"/>
            <a:ext cx="43560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дміністра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 фінансово-господарська діяльні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31"/>
          <p:cNvSpPr/>
          <p:nvPr/>
        </p:nvSpPr>
        <p:spPr>
          <a:xfrm flipH="1">
            <a:off x="1619280" y="2133720"/>
            <a:ext cx="792000" cy="86364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6084720" y="2276640"/>
            <a:ext cx="574920" cy="72072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95640" y="1747800"/>
            <a:ext cx="4392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цільо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72000" y="4941720"/>
            <a:ext cx="4105440" cy="1556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ординування, коригування, регулюва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643280" y="4941720"/>
            <a:ext cx="468180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ачення стратегії розвитку, керівництво та моніторинг освітнього процесу, управління розвитком та фінан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859280" y="2997360"/>
            <a:ext cx="42847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 –виховн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0" y="4941720"/>
            <a:ext cx="4284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ія та управлі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ом, внутрішня 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я комунікаці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4751280" y="620640"/>
          <a:ext cx="43927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1280" y="620640"/>
                    <a:ext cx="43927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4"/>
          <p:cNvSpPr/>
          <p:nvPr/>
        </p:nvSpPr>
        <p:spPr>
          <a:xfrm>
            <a:off x="250920" y="2565360"/>
            <a:ext cx="4752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іфікації особистості членів педагогічного колективу в умовах моделювання ситуації їх успіх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250920" y="3645000"/>
            <a:ext cx="4752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чкості і динамізму під час постійних суспільно-політичних змі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179280" y="5589720"/>
            <a:ext cx="540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навчання працювати у злагоді з собою, ровесниками, батьками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6012000" y="2276640"/>
          <a:ext cx="1611000" cy="17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276640"/>
                    <a:ext cx="161100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5940360" y="2781360"/>
          <a:ext cx="158436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2781360"/>
                    <a:ext cx="15843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6516720" y="2349360"/>
          <a:ext cx="1609560" cy="16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2349360"/>
                    <a:ext cx="16095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250920" y="4581360"/>
            <a:ext cx="4897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ості в ході застосування інформаційних та комп’ютерних технологі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50920" y="765000"/>
            <a:ext cx="5257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ого професійного зростання менеджерів у ході оволодіння перспективним управлінським досвід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26920" y="0"/>
            <a:ext cx="831708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и інноваційної управлінської діяльності менеджер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5" name="Object 15"/>
          <p:cNvGraphicFramePr/>
          <p:nvPr/>
        </p:nvGraphicFramePr>
        <p:xfrm>
          <a:off x="6300720" y="2492280"/>
          <a:ext cx="160992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2492280"/>
                    <a:ext cx="16099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6"/>
          <p:cNvGraphicFramePr/>
          <p:nvPr/>
        </p:nvGraphicFramePr>
        <p:xfrm>
          <a:off x="6300720" y="2133720"/>
          <a:ext cx="1609920" cy="165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2133720"/>
                    <a:ext cx="160992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4"/>
          <p:cNvSpPr/>
          <p:nvPr/>
        </p:nvSpPr>
        <p:spPr>
          <a:xfrm>
            <a:off x="250920" y="1557360"/>
            <a:ext cx="4897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іативності у застосуванні природовідповідних засобів управлінського впливу на учасників навчально-виховного процес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971640" y="6237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Object 26"/>
          <p:cNvGraphicFramePr/>
          <p:nvPr/>
        </p:nvGraphicFramePr>
        <p:xfrm>
          <a:off x="6443640" y="2133720"/>
          <a:ext cx="1609920" cy="165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2133720"/>
                    <a:ext cx="160992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8:58:39Z</dcterms:created>
  <dc:creator>bortu</dc:creator>
  <dc:description/>
  <dc:language>en-US</dc:language>
  <cp:lastModifiedBy>User</cp:lastModifiedBy>
  <dcterms:modified xsi:type="dcterms:W3CDTF">2011-02-10T14:44:28Z</dcterms:modified>
  <cp:revision>177</cp:revision>
  <dc:subject/>
  <dc:title>Слайд 1</dc:title>
</cp:coreProperties>
</file>