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902-45B5-4474-B41E-7B696DCD2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імназія №1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2F3-3617-48C3-99D0-A685D875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B7F-A89F-463F-BE43-FDFD642D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13-53E6-4816-AE89-B3154ED5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A1C-7BF0-4EF8-8632-01E11CBF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DBB-7B36-4FE4-9C98-F3C4F1D0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3D0-27CB-429C-86AC-DBC18A6B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21EA-21ED-4505-A860-53B8E22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A5E-99B6-433B-85AC-0FE9D00C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D23-88A2-4861-B426-52F667CA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D6CA-05DC-46DB-A4F2-1B43D17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802-A182-4CCA-8673-E96EDF2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CD5-8A9E-4052-A2DB-1D9338E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791-1E54-460C-99E2-1BB18B8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4928-F613-4824-ADF1-FC55268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363-F934-473D-9402-820A76D7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F09-F6A5-41E7-8E22-01A95539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C6F8-6787-4394-8C09-097924CB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D9D-5558-463F-8C71-38785BD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99E-2E8C-48E9-AA14-832794D5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F5-8BCA-4AA2-B2DE-87FC00A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AF4-F817-43B7-88E5-C9CD28A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B8B-98AB-41E9-AD1E-8E639E0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C91-D123-4A14-9D9E-630F136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56C-95A7-4843-9AF9-EF3DDAD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BC4A-C422-47A5-AE5B-37C206C3D2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26B-000D-4BB6-8819-BDD151D5D4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-757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395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-1189080" y="38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4788000" y="2493720"/>
            <a:ext cx="410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а педагогічної майстерності та менеджмен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ість: Специфічні категор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 проек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онала магістрантка: Гилюн Людмила Вікторі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п.н., доцент Малаканова Л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00000549_s"/>
          <p:cNvPicPr/>
          <p:nvPr/>
        </p:nvPicPr>
        <p:blipFill>
          <a:blip r:embed="rId1"/>
          <a:stretch/>
        </p:blipFill>
        <p:spPr>
          <a:xfrm>
            <a:off x="468360" y="1844640"/>
            <a:ext cx="390852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7"/>
          <p:cNvSpPr/>
          <p:nvPr/>
        </p:nvSpPr>
        <p:spPr>
          <a:xfrm>
            <a:off x="140328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ТАВСЬКИЙ НАЦІОНАЛЬНИЙ ПЕДАГОГІЧНИЙ УНІВЕРСИТЕТ ІМЕНІ В.Г. КОРОЛ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Інноваційні підходи до управлі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685800" y="1447920"/>
            <a:ext cx="2514600" cy="1447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ворчі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6019920" y="1447920"/>
            <a:ext cx="259056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Майстерні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228600" y="5257800"/>
            <a:ext cx="289548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Буденні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324480" y="5638680"/>
            <a:ext cx="25909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Функціонуванн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0880" y="3429000"/>
            <a:ext cx="259092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досконаленн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ізнання нов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6172200" y="3657600"/>
            <a:ext cx="274320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вит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3276720" y="5638680"/>
            <a:ext cx="2895480" cy="4572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3276720" y="3962520"/>
            <a:ext cx="2971800" cy="45720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3276720" y="2057400"/>
            <a:ext cx="2666880" cy="45720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12" descr="PROFESSR"/>
          <p:cNvPicPr/>
          <p:nvPr/>
        </p:nvPicPr>
        <p:blipFill>
          <a:blip r:embed="rId1"/>
          <a:stretch/>
        </p:blipFill>
        <p:spPr>
          <a:xfrm>
            <a:off x="2286000" y="1066680"/>
            <a:ext cx="401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403280" y="191628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нноваційні підходи до управління освітнім заклад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4"/>
          <p:cNvSpPr/>
          <p:nvPr/>
        </p:nvSpPr>
        <p:spPr>
          <a:xfrm>
            <a:off x="5003640" y="1341360"/>
            <a:ext cx="3098880" cy="2232000"/>
          </a:xfrm>
          <a:prstGeom prst="hexagon">
            <a:avLst>
              <a:gd name="adj" fmla="val 34710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ворч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чителів 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кладач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3059280" y="2421000"/>
            <a:ext cx="2736720" cy="2160360"/>
          </a:xfrm>
          <a:prstGeom prst="hexagon">
            <a:avLst>
              <a:gd name="adj" fmla="val 31670"/>
              <a:gd name="vf" fmla="val 115470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прийом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 метод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радиційної і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нновацій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осві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3"/>
          <p:cNvSpPr/>
          <p:nvPr/>
        </p:nvSpPr>
        <p:spPr>
          <a:xfrm>
            <a:off x="3276720" y="4508640"/>
            <a:ext cx="2447640" cy="2016000"/>
          </a:xfrm>
          <a:prstGeom prst="hexagon">
            <a:avLst>
              <a:gd name="adj" fmla="val 30353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ерува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вит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сон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7"/>
          <p:cNvSpPr/>
          <p:nvPr/>
        </p:nvSpPr>
        <p:spPr>
          <a:xfrm>
            <a:off x="971640" y="1413000"/>
            <a:ext cx="2878200" cy="2160360"/>
          </a:xfrm>
          <a:prstGeom prst="hexagon">
            <a:avLst>
              <a:gd name="adj" fmla="val 33307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мостійн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58"/>
          <p:cNvSpPr/>
          <p:nvPr/>
        </p:nvSpPr>
        <p:spPr>
          <a:xfrm>
            <a:off x="3132000" y="333360"/>
            <a:ext cx="2735280" cy="2232000"/>
          </a:xfrm>
          <a:prstGeom prst="hexagon">
            <a:avLst>
              <a:gd name="adj" fmla="val 30637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новаційн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ціати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ринципи інноваційності в управлінні освітнім закла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6"/>
          <p:cNvSpPr/>
          <p:nvPr/>
        </p:nvSpPr>
        <p:spPr>
          <a:xfrm>
            <a:off x="826920" y="3500280"/>
            <a:ext cx="3097440" cy="2376720"/>
          </a:xfrm>
          <a:prstGeom prst="hexagon">
            <a:avLst>
              <a:gd name="adj" fmla="val 32581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модіяльн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55"/>
          <p:cNvSpPr/>
          <p:nvPr/>
        </p:nvSpPr>
        <p:spPr>
          <a:xfrm>
            <a:off x="5003640" y="3429000"/>
            <a:ext cx="3311640" cy="2160720"/>
          </a:xfrm>
          <a:prstGeom prst="hexagon">
            <a:avLst>
              <a:gd name="adj" fmla="val 33874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вчити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заємодії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ести відповідальні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самостійно ч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операти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йняті ріш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УКОВ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І</a:t>
            </a:r>
            <a:r>
              <a:rPr b="1" lang="uk-U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ПІДХОДИ В УПРАВЛІННІ ЗН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6748560" y="5745240"/>
            <a:ext cx="1687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5060880" y="5745240"/>
            <a:ext cx="16876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4"/>
          <p:cNvSpPr/>
          <p:nvPr/>
        </p:nvSpPr>
        <p:spPr>
          <a:xfrm>
            <a:off x="3375000" y="5745240"/>
            <a:ext cx="168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0" y="4836960"/>
            <a:ext cx="3375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ратегі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6748560" y="4802040"/>
            <a:ext cx="1687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5060880" y="4802040"/>
            <a:ext cx="1687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1979640" y="4292640"/>
            <a:ext cx="41641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іліс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0" y="4802040"/>
            <a:ext cx="8967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6748560" y="3895560"/>
            <a:ext cx="168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4"/>
          <p:cNvSpPr/>
          <p:nvPr/>
        </p:nvSpPr>
        <p:spPr>
          <a:xfrm>
            <a:off x="2843280" y="3860640"/>
            <a:ext cx="4154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нергети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1687680" y="3895560"/>
            <a:ext cx="9061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0" y="3895560"/>
            <a:ext cx="1687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3851280" y="3284640"/>
            <a:ext cx="44388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уманісти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3375000" y="2684520"/>
            <a:ext cx="6224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1687680" y="2684520"/>
            <a:ext cx="16873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0" y="2684520"/>
            <a:ext cx="16876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5769000" y="2421000"/>
            <a:ext cx="33750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Особистісноорієнто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375000" y="1473120"/>
            <a:ext cx="1685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687680" y="1473120"/>
            <a:ext cx="1687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0" y="1473120"/>
            <a:ext cx="16876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57"/>
          <p:cNvSpPr/>
          <p:nvPr/>
        </p:nvSpPr>
        <p:spPr>
          <a:xfrm>
            <a:off x="0" y="1473120"/>
            <a:ext cx="168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62"/>
          <p:cNvSpPr/>
          <p:nvPr/>
        </p:nvSpPr>
        <p:spPr>
          <a:xfrm>
            <a:off x="0" y="6858000"/>
            <a:ext cx="337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0" y="147312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8435880" y="147312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85"/>
          <p:cNvSpPr/>
          <p:nvPr/>
        </p:nvSpPr>
        <p:spPr>
          <a:xfrm>
            <a:off x="3375000" y="1473120"/>
            <a:ext cx="1685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87"/>
          <p:cNvSpPr/>
          <p:nvPr/>
        </p:nvSpPr>
        <p:spPr>
          <a:xfrm>
            <a:off x="5060880" y="1473120"/>
            <a:ext cx="337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90"/>
          <p:cNvSpPr/>
          <p:nvPr/>
        </p:nvSpPr>
        <p:spPr>
          <a:xfrm>
            <a:off x="8435880" y="2684520"/>
            <a:ext cx="0" cy="12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92"/>
          <p:cNvSpPr/>
          <p:nvPr/>
        </p:nvSpPr>
        <p:spPr>
          <a:xfrm>
            <a:off x="0" y="3895560"/>
            <a:ext cx="0" cy="90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199"/>
          <p:cNvSpPr/>
          <p:nvPr/>
        </p:nvSpPr>
        <p:spPr>
          <a:xfrm>
            <a:off x="8435880" y="3895560"/>
            <a:ext cx="0" cy="90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201"/>
          <p:cNvSpPr/>
          <p:nvPr/>
        </p:nvSpPr>
        <p:spPr>
          <a:xfrm>
            <a:off x="0" y="4802040"/>
            <a:ext cx="0" cy="9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207"/>
          <p:cNvSpPr/>
          <p:nvPr/>
        </p:nvSpPr>
        <p:spPr>
          <a:xfrm>
            <a:off x="8435880" y="4802040"/>
            <a:ext cx="0" cy="9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09"/>
          <p:cNvSpPr/>
          <p:nvPr/>
        </p:nvSpPr>
        <p:spPr>
          <a:xfrm>
            <a:off x="0" y="5745240"/>
            <a:ext cx="0" cy="11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15"/>
          <p:cNvSpPr/>
          <p:nvPr/>
        </p:nvSpPr>
        <p:spPr>
          <a:xfrm>
            <a:off x="8435880" y="5745240"/>
            <a:ext cx="0" cy="11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16"/>
          <p:cNvSpPr/>
          <p:nvPr/>
        </p:nvSpPr>
        <p:spPr>
          <a:xfrm>
            <a:off x="3375000" y="6858000"/>
            <a:ext cx="1685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18"/>
          <p:cNvSpPr/>
          <p:nvPr/>
        </p:nvSpPr>
        <p:spPr>
          <a:xfrm>
            <a:off x="5060880" y="6858000"/>
            <a:ext cx="168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220"/>
          <p:cNvSpPr/>
          <p:nvPr/>
        </p:nvSpPr>
        <p:spPr>
          <a:xfrm>
            <a:off x="6748560" y="6858000"/>
            <a:ext cx="168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83"/>
          <p:cNvSpPr/>
          <p:nvPr/>
        </p:nvSpPr>
        <p:spPr>
          <a:xfrm>
            <a:off x="1687680" y="1473120"/>
            <a:ext cx="168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84"/>
          <p:cNvSpPr/>
          <p:nvPr/>
        </p:nvSpPr>
        <p:spPr>
          <a:xfrm>
            <a:off x="0" y="2684520"/>
            <a:ext cx="0" cy="12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34" descr="учит 4"/>
          <p:cNvPicPr/>
          <p:nvPr/>
        </p:nvPicPr>
        <p:blipFill>
          <a:blip r:embed="rId1"/>
          <a:stretch/>
        </p:blipFill>
        <p:spPr>
          <a:xfrm>
            <a:off x="250920" y="162864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6" descr="учит 3"/>
          <p:cNvPicPr/>
          <p:nvPr/>
        </p:nvPicPr>
        <p:blipFill>
          <a:blip r:embed="rId2"/>
          <a:stretch/>
        </p:blipFill>
        <p:spPr>
          <a:xfrm>
            <a:off x="7012080" y="4014720"/>
            <a:ext cx="2131920" cy="284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6"/>
          <p:cNvSpPr/>
          <p:nvPr/>
        </p:nvSpPr>
        <p:spPr>
          <a:xfrm>
            <a:off x="5003640" y="2793960"/>
            <a:ext cx="33753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Адаптив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6597720" y="1916280"/>
            <a:ext cx="33750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стем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cc"/>
                </a:solidFill>
                <a:latin typeface="Times New Roman"/>
              </a:rPr>
              <a:t>Шляхи реалізації інноваційних підході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1042920" y="1311840"/>
            <a:ext cx="7026480" cy="424908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ідтримка інноваційної ініціативи обєктів управління:  подання на педагогічну раду науково-методичної розробки у вигляді  педагогічної інновації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1116000" y="1813320"/>
            <a:ext cx="6877080" cy="40503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ведення систематичних конкурсів на кращу науково-методичну розробку серед працівників та участь у конкурсах і вистав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042920" y="1792800"/>
            <a:ext cx="7129440" cy="48387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Формування команди однодумців, спрямованих у своїй професійній діяльності на досягнення спільної ме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042920" y="1082520"/>
            <a:ext cx="7029360" cy="56289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ередача частини управлінських повноважень відповідній групі працівників для виконання будь-яких нових доручен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2987640" y="1052640"/>
            <a:ext cx="3240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ська дія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95280" y="2276640"/>
            <a:ext cx="273672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визнан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ів управлінн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абезпечують стабіль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ування закла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132000" y="2276640"/>
            <a:ext cx="2951280" cy="1800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радиці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940360" y="2276640"/>
            <a:ext cx="295128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х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сь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2627280" y="4005360"/>
            <a:ext cx="403236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таких організацій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 управління, як ліній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о-функціональ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250920" y="2205000"/>
            <a:ext cx="2950920" cy="2162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чних принципі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забезпечую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тоспроможні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нноваційність ЗН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3132000" y="2205000"/>
            <a:ext cx="2951280" cy="187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новаці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2627280" y="4005360"/>
            <a:ext cx="4392720" cy="1800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 технологі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ювання організаційн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 управлінн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ктивного планува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тком ЗНЗ, розроб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впровадже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ічних інновац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6084720" y="2133720"/>
            <a:ext cx="3059280" cy="2087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ширеного зміс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их” 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рнізованих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ських функц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2"/>
          <p:cNvSpPr/>
          <p:nvPr/>
        </p:nvSpPr>
        <p:spPr>
          <a:xfrm>
            <a:off x="900000" y="0"/>
            <a:ext cx="824400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Результат застосування інноваційних підходів до управління освітнім закла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084720" y="3213000"/>
            <a:ext cx="2737080" cy="1313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Розширення освітніх послуг і шляхів застосування освітніх інноваці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4000" y="2924280"/>
            <a:ext cx="2806560" cy="22284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Активізація суспільних і державних зусиль щодо виходу освіти  на рівень міжнародних стандартів як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971640" y="5373720"/>
            <a:ext cx="7632720" cy="825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носпроможність закладів освіти різних типів і форм власност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419640" y="1413000"/>
            <a:ext cx="2301840" cy="37141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Відмова керівників від принципів авторитарного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6084720" y="907920"/>
            <a:ext cx="2808360" cy="1869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Прагнення керівників закладів освіти оволодіти сучасними основами управління соціально-педагогічними систем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(менеджменту освітніх інноваці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24000" y="981000"/>
            <a:ext cx="2808000" cy="17398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Здійснення керівниками закладів освіти підприємницької діяльності й отримання ними різних видів інвестиці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15"/>
          <p:cNvSpPr/>
          <p:nvPr/>
        </p:nvSpPr>
        <p:spPr>
          <a:xfrm>
            <a:off x="4356000" y="2133720"/>
            <a:ext cx="935280" cy="280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11640" y="2997360"/>
            <a:ext cx="48592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Times New Roman"/>
              </a:rPr>
              <a:t>Облік 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Times New Roman"/>
              </a:rPr>
              <a:t>контро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3850920" y="2133720"/>
            <a:ext cx="576360" cy="2806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32"/>
          <p:cNvSpPr/>
          <p:nvPr/>
        </p:nvSpPr>
        <p:spPr>
          <a:xfrm flipH="1">
            <a:off x="3419280" y="2133720"/>
            <a:ext cx="865080" cy="28810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>
            <a:off x="4427640" y="2133720"/>
            <a:ext cx="576000" cy="2879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38"/>
          <p:cNvSpPr/>
          <p:nvPr/>
        </p:nvSpPr>
        <p:spPr>
          <a:xfrm>
            <a:off x="4500720" y="2133720"/>
            <a:ext cx="1008000" cy="287964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2920" y="0"/>
            <a:ext cx="7561440" cy="947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Times New Roman"/>
              </a:rPr>
              <a:t>Класифікація функцій інноваційного управління освітнім закла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ункції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84360" y="1747800"/>
            <a:ext cx="3672000" cy="4597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Інновацій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1402920" y="1989000"/>
            <a:ext cx="1009800" cy="1008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H="1">
            <a:off x="3635280" y="2133720"/>
            <a:ext cx="720720" cy="280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6084720" y="1989000"/>
            <a:ext cx="1366920" cy="935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50920" y="4937040"/>
            <a:ext cx="366372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ff"/>
                </a:solidFill>
                <a:latin typeface="Times New Roman"/>
              </a:rPr>
              <a:t>консультатив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859280" y="4941720"/>
            <a:ext cx="3673440" cy="94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99ff"/>
                </a:solidFill>
                <a:latin typeface="Times New Roman"/>
              </a:rPr>
              <a:t>Політик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99ff"/>
                </a:solidFill>
                <a:latin typeface="Times New Roman"/>
              </a:rPr>
              <a:t>дипломатич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2997360"/>
            <a:ext cx="3562200" cy="7034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рогностич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211640" y="2997360"/>
            <a:ext cx="4681440" cy="1068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99ff"/>
                </a:solidFill>
                <a:latin typeface="Times New Roman"/>
              </a:rPr>
              <a:t>Представниць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99ff"/>
                </a:solidFill>
                <a:latin typeface="Times New Roman"/>
              </a:rPr>
              <a:t>менеджерс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-73080" y="2997360"/>
            <a:ext cx="428472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йнятт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Управлінсь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іш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24"/>
          <p:cNvSpPr/>
          <p:nvPr/>
        </p:nvSpPr>
        <p:spPr>
          <a:xfrm flipH="1">
            <a:off x="1763280" y="2133720"/>
            <a:ext cx="792360" cy="863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6084720" y="2133720"/>
            <a:ext cx="935280" cy="8618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68360" y="1773360"/>
            <a:ext cx="42483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радицій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4941720"/>
            <a:ext cx="460836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Організація 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2997360"/>
            <a:ext cx="43560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дміністра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 фінансово-господарська діяльні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1619280" y="2133720"/>
            <a:ext cx="792000" cy="86364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6084720" y="2276640"/>
            <a:ext cx="574920" cy="72072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95640" y="1747800"/>
            <a:ext cx="4392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цільо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72000" y="4941720"/>
            <a:ext cx="4105440" cy="1556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ординування, коригування, регулюва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643280" y="4941720"/>
            <a:ext cx="468180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ачення стратегії розвитку, керівництво та моніторинг освітнього процесу, управління розвитком та фінан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859280" y="2997360"/>
            <a:ext cx="42847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 –виховн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4941720"/>
            <a:ext cx="4284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ія та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ом, внутрішня 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я комунікаці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4751280" y="620640"/>
          <a:ext cx="43927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1280" y="620640"/>
                    <a:ext cx="43927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4"/>
          <p:cNvSpPr/>
          <p:nvPr/>
        </p:nvSpPr>
        <p:spPr>
          <a:xfrm>
            <a:off x="250920" y="2565360"/>
            <a:ext cx="4752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іфікації особистості членів педагогічного колективу в умовах моделювання ситуації їх успіх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50920" y="3645000"/>
            <a:ext cx="4752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чкості і динамізму під час постійних суспільно-політичних змі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179280" y="5589720"/>
            <a:ext cx="540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вчання працювати у злагоді з собою, ровесниками, батьками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6012000" y="2276640"/>
          <a:ext cx="1611000" cy="17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276640"/>
                    <a:ext cx="161100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5940360" y="2781360"/>
          <a:ext cx="158436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2781360"/>
                    <a:ext cx="15843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6516720" y="2349360"/>
          <a:ext cx="1609560" cy="16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2349360"/>
                    <a:ext cx="16095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250920" y="4581360"/>
            <a:ext cx="4897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ості в ході застосування інформаційних та комп’ютерних технолог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50920" y="765000"/>
            <a:ext cx="5257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го професійного зростання менеджерів у ході оволодіння перспективним управлінським досвід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26920" y="0"/>
            <a:ext cx="831708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и інноваційної управлінської діяльності менеджер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5" name="Object 15"/>
          <p:cNvGraphicFramePr/>
          <p:nvPr/>
        </p:nvGraphicFramePr>
        <p:xfrm>
          <a:off x="6300720" y="2492280"/>
          <a:ext cx="160992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2492280"/>
                    <a:ext cx="16099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6"/>
          <p:cNvGraphicFramePr/>
          <p:nvPr/>
        </p:nvGraphicFramePr>
        <p:xfrm>
          <a:off x="6300720" y="2133720"/>
          <a:ext cx="1609920" cy="165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2133720"/>
                    <a:ext cx="160992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4"/>
          <p:cNvSpPr/>
          <p:nvPr/>
        </p:nvSpPr>
        <p:spPr>
          <a:xfrm>
            <a:off x="250920" y="1557360"/>
            <a:ext cx="4897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іативності у застосуванні природовідповідних засобів управлінського впливу на учасників навчально-виховного проце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971640" y="6237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Object 26"/>
          <p:cNvGraphicFramePr/>
          <p:nvPr/>
        </p:nvGraphicFramePr>
        <p:xfrm>
          <a:off x="6443640" y="2133720"/>
          <a:ext cx="1609920" cy="165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2133720"/>
                    <a:ext cx="160992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8:58:39Z</dcterms:created>
  <dc:creator>bortu</dc:creator>
  <dc:description/>
  <dc:language>en-US</dc:language>
  <cp:lastModifiedBy>User</cp:lastModifiedBy>
  <dcterms:modified xsi:type="dcterms:W3CDTF">2011-02-10T14:44:28Z</dcterms:modified>
  <cp:revision>177</cp:revision>
  <dc:subject/>
  <dc:title>Слайд 1</dc:title>
</cp:coreProperties>
</file>